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8C0-4217-4A66-84EA-6569C63C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7C6-FE05-4489-AAEF-DE3B6714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847-8B0D-4BD4-B6DF-550540DF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363-B2DD-41F6-9AD8-ACE6F577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45A9-139A-4D8D-8D82-5BEE3440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2D55-A6D5-42D1-8BF7-8F0BC19B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9073-0B47-497B-B026-8A7CCC29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047D-1F1C-416F-A877-EAF7F092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DC90-B901-4D22-A8F4-3C793BC3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7765-F42A-429F-9B03-CAE9351F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47BC-8A57-4EDB-854B-BCCA2F28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5F8-E985-485A-8D17-C3E11FCE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6718-B505-4860-A879-7E12B407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C266-7181-4A3B-96FF-B7858634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141C-A96F-4A08-8808-79B7877C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4226-ECD4-4222-8F60-A79BE722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5C8A-097E-4346-A6AC-E44D7857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D15-EA38-4F89-AA8C-4EBC47D4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745-3B96-41C9-8685-1E82FB78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6E1-B706-483C-A5EB-1A7CDD0F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A8F-7DDD-4A6D-9E4F-CCE99F7D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F6F-70E0-440D-895F-F8D2C57E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354-8D73-4674-8C70-0215B641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563-D2E6-4E20-B708-1B312452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9C78-9E67-4AD2-9A1A-891726AC764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5ED8-7496-45F0-B1AA-74B3DA62219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981000"/>
            <a:ext cx="530064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Различай</a:t>
            </a: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С-З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58920" y="3284280"/>
            <a:ext cx="6580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ЛОГОПЕДИЯ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2 КЛАС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50560" y="1530000"/>
            <a:ext cx="583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ебя он раскрывает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тебя он закрывает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Только дождиче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ройдет – сделае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наоборот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51640" y="2133720"/>
            <a:ext cx="2771640" cy="2253960"/>
          </a:xfrm>
          <a:prstGeom prst="rect">
            <a:avLst/>
          </a:prstGeom>
          <a:ln w="0">
            <a:noFill/>
          </a:ln>
        </p:spPr>
      </p:pic>
      <p:sp>
        <p:nvSpPr>
          <p:cNvPr id="244" name="">
            <a:hlinkClick r:id="rId3" action="ppaction://hlinksldjump"/>
          </p:cNvPr>
          <p:cNvSpPr/>
          <p:nvPr/>
        </p:nvSpPr>
        <p:spPr>
          <a:xfrm>
            <a:off x="831708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«Подбери пару»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онкая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олнц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мняя                          у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о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еннее                       п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н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р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вый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2349360"/>
            <a:ext cx="3456000" cy="2087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203640" y="3573360"/>
            <a:ext cx="2952720" cy="1943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360" y="3429000"/>
            <a:ext cx="3456000" cy="2087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132000" y="2421000"/>
            <a:ext cx="2952720" cy="2016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Пальчиковая</a:t>
            </a: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гимнастик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3745080" cy="254808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8604360" y="645336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9" h="21600">
                <a:moveTo>
                  <a:pt x="9133" y="10800"/>
                </a:moveTo>
                <a:lnTo>
                  <a:pt x="23146" y="3794"/>
                </a:lnTo>
                <a:lnTo>
                  <a:pt x="2314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20360" y="4962240"/>
            <a:ext cx="56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Бабушка очки надел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И внучонка разглядела.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4103640" cy="3380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491120" y="3790080"/>
            <a:ext cx="6223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ом стоит с трубой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И крышей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На балкон гулять я вышел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На двери висит замок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Кто открыть бы его мог?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5280" y="472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отянули, покрутили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остучали и открыли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42116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«Придумай слова»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З                                 С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________               ________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________               ________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________               ________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________               ________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2124000" y="4941720"/>
            <a:ext cx="432000" cy="28764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3794"/>
                </a:moveTo>
                <a:lnTo>
                  <a:pt x="23220" y="10800"/>
                </a:lnTo>
                <a:lnTo>
                  <a:pt x="9207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>
            <a:hlinkClick r:id="rId3" action="ppaction://hlinksldjump"/>
          </p:cNvPr>
          <p:cNvSpPr/>
          <p:nvPr/>
        </p:nvSpPr>
        <p:spPr>
          <a:xfrm>
            <a:off x="7164360" y="4941720"/>
            <a:ext cx="432000" cy="28764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3794"/>
                </a:moveTo>
                <a:lnTo>
                  <a:pt x="23220" y="10800"/>
                </a:lnTo>
                <a:lnTo>
                  <a:pt x="9207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Автор разработк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Букина Елена Альбертовн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12г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Зон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Зим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Зол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Замок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4284720" y="450864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10800"/>
                </a:moveTo>
                <a:lnTo>
                  <a:pt x="24220" y="3794"/>
                </a:lnTo>
                <a:lnTo>
                  <a:pt x="2422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3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Сов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Сумк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Соль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Сорока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">
            <a:hlinkClick r:id="rId2" action="ppaction://hlinksldjump"/>
          </p:cNvPr>
          <p:cNvSpPr/>
          <p:nvPr/>
        </p:nvSpPr>
        <p:spPr>
          <a:xfrm>
            <a:off x="4284720" y="472428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10800"/>
                </a:moveTo>
                <a:lnTo>
                  <a:pt x="24220" y="3794"/>
                </a:lnTo>
                <a:lnTo>
                  <a:pt x="2422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57200" y="333360"/>
            <a:ext cx="8229600" cy="5472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884760" y="580716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заяц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3272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«Поймай звук»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_обака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_метан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_уб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_вонок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_ыр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4023000" y="-981000"/>
            <a:ext cx="49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-963720"/>
            <a:ext cx="4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46080" y="-10018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77720" y="-9302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52840" y="-930240"/>
            <a:ext cx="4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99160" y="-6033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67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04 0.05783 L -0.05364 0.37266 E">
                                      <p:cBhvr>
                                        <p:cTn id="33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42817E-006 L -0.12309 0.50034 E">
                                      <p:cBhvr>
                                        <p:cTn id="44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94 0.06524 L -0.15399 0.61092 E">
                                      <p:cBhvr>
                                        <p:cTn id="55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12 0.07981 L -0.25642 0.72635 E">
                                      <p:cBhvr>
                                        <p:cTn id="66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85 0.07981 L -0.24896 0.83137 E">
                                      <p:cBhvr>
                                        <p:cTn id="77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Картинка 66 из 64000"/>
          <p:cNvPicPr/>
          <p:nvPr/>
        </p:nvPicPr>
        <p:blipFill>
          <a:blip r:embed="rId2"/>
          <a:stretch/>
        </p:blipFill>
        <p:spPr>
          <a:xfrm>
            <a:off x="1116000" y="0"/>
            <a:ext cx="6773760" cy="6093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985920" y="6021360"/>
            <a:ext cx="13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часы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604360" y="638172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4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Картинка 71 из 64000"/>
          <p:cNvPicPr/>
          <p:nvPr/>
        </p:nvPicPr>
        <p:blipFill>
          <a:blip r:embed="rId2"/>
          <a:stretch/>
        </p:blipFill>
        <p:spPr>
          <a:xfrm>
            <a:off x="1116000" y="189000"/>
            <a:ext cx="6837480" cy="5127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097160" y="544824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лиса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604360" y="6453360"/>
            <a:ext cx="288720" cy="21564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08" y="1400"/>
                </a:lnTo>
                <a:lnTo>
                  <a:pt x="1400" y="140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08" y="20200"/>
                </a:lnTo>
                <a:lnTo>
                  <a:pt x="27508" y="140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8" y="2020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8" h="21600">
                <a:moveTo>
                  <a:pt x="7448" y="10800"/>
                </a:moveTo>
                <a:lnTo>
                  <a:pt x="21460" y="3794"/>
                </a:lnTo>
                <a:lnTo>
                  <a:pt x="2146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Картинка 2 из 64000"/>
          <p:cNvPicPr/>
          <p:nvPr/>
        </p:nvPicPr>
        <p:blipFill>
          <a:blip r:embed="rId2"/>
          <a:stretch/>
        </p:blipFill>
        <p:spPr>
          <a:xfrm>
            <a:off x="1187280" y="115920"/>
            <a:ext cx="6409080" cy="54338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007520" y="551988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зон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>
            <a:hlinkClick r:id="rId3" action="ppaction://hlinksldjump"/>
          </p:cNvPr>
          <p:cNvSpPr/>
          <p:nvPr/>
        </p:nvSpPr>
        <p:spPr>
          <a:xfrm>
            <a:off x="845964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44000" cy="31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867564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8532720" y="645336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ва_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о_уд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имо_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_умк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ор_ин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лю_тр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1160" y="-9302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69720" y="-8589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98480" y="-53172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77720" y="-9302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73200" y="-1074600"/>
            <a:ext cx="4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59560" y="-7477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48360" y="-674640"/>
            <a:ext cx="3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97560" y="-1001880"/>
            <a:ext cx="4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0.05483 L -0.00451 0.22277 E">
                                      <p:cBhvr>
                                        <p:cTn id="90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0.06547 L 0.08177 0.35925 E">
                                      <p:cBhvr>
                                        <p:cTn id="101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694 L 0.00347 0.44321 E">
                                      <p:cBhvr>
                                        <p:cTn id="112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66 0.06524 L -0.29618 0.57946 E">
                                      <p:cBhvr>
                                        <p:cTn id="123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7981 L -0.16979 0.69489 E">
                                      <p:cBhvr>
                                        <p:cTn id="134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0.0805 L -0.29618 0.77307 E">
                                      <p:cBhvr>
                                        <p:cTn id="145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«Найди звук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227640" y="1773360"/>
            <a:ext cx="153036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995640" y="177336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6372360" y="3213000"/>
            <a:ext cx="1506240" cy="3033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3855960" y="3213000"/>
            <a:ext cx="1668600" cy="2952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826920" y="3213000"/>
            <a:ext cx="1965600" cy="2957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340000" y="2852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2852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40720" y="278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5877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5877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85080" y="5877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«Поймай слог»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188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__кол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4392720" y="-831960"/>
            <a:ext cx="7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Со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0920" y="2276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о___,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92040" y="22050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р__на,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9880" y="321300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оро___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86200" y="-83196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зов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24600" y="-8190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сок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09360" y="-9032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зи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00720" y="2276640"/>
            <a:ext cx="2665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___ка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2276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у___,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94400" y="-83196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лос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58920" y="-90324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зец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7 0.04927 L -0.43125 0.34304 E">
                                      <p:cBhvr>
                                        <p:cTn id="202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0.04949 L -0.52344 0.43756 E">
                                      <p:cBhvr>
                                        <p:cTn id="213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2 0.04741 L -0.45278 0.43548 E">
                                      <p:cBhvr>
                                        <p:cTn id="224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52 0.0495 L -0.36563 0.44797 E">
                                      <p:cBhvr>
                                        <p:cTn id="235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9 0.04926 L -0.23698 0.42692 E">
                                      <p:cBhvr>
                                        <p:cTn id="246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0.05966 L -0.08316 0.58418 E">
                                      <p:cBhvr>
                                        <p:cTn id="25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Характеристика звук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5940360" y="3716280"/>
            <a:ext cx="1081080" cy="647640"/>
          </a:xfrm>
          <a:prstGeom prst="flowChartProcess">
            <a:avLst/>
          </a:prstGeom>
          <a:solidFill>
            <a:srgbClr val="edfad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92360" y="3716280"/>
            <a:ext cx="1081080" cy="647640"/>
          </a:xfrm>
          <a:prstGeom prst="flowChartProcess">
            <a:avLst/>
          </a:prstGeom>
          <a:solidFill>
            <a:srgbClr val="edfad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157720"/>
            <a:ext cx="1081080" cy="647640"/>
          </a:xfrm>
          <a:prstGeom prst="flowChartProcess">
            <a:avLst/>
          </a:prstGeom>
          <a:solidFill>
            <a:srgbClr val="edfad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арн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48000" y="4221000"/>
            <a:ext cx="2303640" cy="648000"/>
          </a:xfrm>
          <a:prstGeom prst="flowChartProcess">
            <a:avLst/>
          </a:prstGeom>
          <a:solidFill>
            <a:srgbClr val="edfad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ереднеязычн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80000" y="3284640"/>
            <a:ext cx="1512720" cy="647640"/>
          </a:xfrm>
          <a:prstGeom prst="flowChartProcess">
            <a:avLst/>
          </a:prstGeom>
          <a:solidFill>
            <a:srgbClr val="edfad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вистящи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2349360"/>
            <a:ext cx="1441440" cy="648000"/>
          </a:xfrm>
          <a:prstGeom prst="flowChartProcess">
            <a:avLst/>
          </a:prstGeom>
          <a:solidFill>
            <a:srgbClr val="edfad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огласн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24720" y="3716280"/>
            <a:ext cx="1081080" cy="647640"/>
          </a:xfrm>
          <a:prstGeom prst="flowChartProcess">
            <a:avLst/>
          </a:prstGeom>
          <a:solidFill>
            <a:srgbClr val="edfad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вонки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3716280"/>
            <a:ext cx="1081080" cy="647640"/>
          </a:xfrm>
          <a:prstGeom prst="flowChartProcess">
            <a:avLst/>
          </a:prstGeom>
          <a:solidFill>
            <a:srgbClr val="edfad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глухо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20000" y="4076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5219640" y="299700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292360" y="3644640"/>
            <a:ext cx="647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651640" y="4005360"/>
            <a:ext cx="288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771640" y="2997000"/>
            <a:ext cx="100836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771640" y="357300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71640" y="400536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33164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71640" y="4365720"/>
            <a:ext cx="1224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076360" y="4292640"/>
            <a:ext cx="863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Загадки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546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тучат, стучат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не велят скучать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Идут, идут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 все тут как тут.</a:t>
            </a:r>
            <a:br>
              <a:rPr sz="3600"/>
            </a:b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940360" y="227664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92200" y="4164120"/>
            <a:ext cx="405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8317080" y="6308640"/>
            <a:ext cx="358560" cy="324000"/>
          </a:xfrm>
          <a:custGeom>
            <a:avLst/>
            <a:gdLst>
              <a:gd name="textAreaLeft" fmla="*/ 20880 w 358560"/>
              <a:gd name="textAreaRight" fmla="*/ 337680 w 3585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3901" h="21600">
                <a:moveTo>
                  <a:pt x="0" y="0"/>
                </a:moveTo>
                <a:lnTo>
                  <a:pt x="23901" y="0"/>
                </a:lnTo>
                <a:lnTo>
                  <a:pt x="23901" y="21600"/>
                </a:lnTo>
                <a:lnTo>
                  <a:pt x="0" y="21600"/>
                </a:lnTo>
                <a:close/>
              </a:path>
              <a:path fill="lightenLess" w="23901" h="21600">
                <a:moveTo>
                  <a:pt x="0" y="0"/>
                </a:moveTo>
                <a:lnTo>
                  <a:pt x="23901" y="0"/>
                </a:lnTo>
                <a:lnTo>
                  <a:pt x="22501" y="1400"/>
                </a:lnTo>
                <a:lnTo>
                  <a:pt x="1400" y="1400"/>
                </a:lnTo>
                <a:close/>
              </a:path>
              <a:path fill="darken" w="23901" h="21600">
                <a:moveTo>
                  <a:pt x="23901" y="0"/>
                </a:moveTo>
                <a:lnTo>
                  <a:pt x="23901" y="21600"/>
                </a:lnTo>
                <a:lnTo>
                  <a:pt x="22501" y="20200"/>
                </a:lnTo>
                <a:lnTo>
                  <a:pt x="22501" y="1400"/>
                </a:lnTo>
                <a:close/>
              </a:path>
              <a:path fill="darkenLess" w="23901" h="21600">
                <a:moveTo>
                  <a:pt x="2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01" y="20200"/>
                </a:lnTo>
                <a:close/>
              </a:path>
              <a:path fill="lighten" w="2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01" h="21600">
                <a:moveTo>
                  <a:pt x="4944" y="3794"/>
                </a:moveTo>
                <a:lnTo>
                  <a:pt x="18957" y="10800"/>
                </a:lnTo>
                <a:lnTo>
                  <a:pt x="494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4330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линное ухо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комочек пуха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рыгает ловко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Любит морковку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292720" y="1700280"/>
            <a:ext cx="3506760" cy="2344680"/>
          </a:xfrm>
          <a:prstGeom prst="rect">
            <a:avLst/>
          </a:prstGeom>
          <a:ln w="76320">
            <a:solidFill>
              <a:srgbClr val="006699"/>
            </a:solidFill>
            <a:miter/>
          </a:ln>
        </p:spPr>
      </p:pic>
      <p:sp>
        <p:nvSpPr>
          <p:cNvPr id="238" name="">
            <a:hlinkClick r:id="rId3" action="ppaction://hlinksldjump"/>
          </p:cNvPr>
          <p:cNvSpPr/>
          <p:nvPr/>
        </p:nvSpPr>
        <p:spPr>
          <a:xfrm>
            <a:off x="8244000" y="623736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50560" y="1413000"/>
            <a:ext cx="454644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Рыжая плутовка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хитрая да ловкая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 сарай попала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кур пересчитала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4105080" cy="206208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8388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22:05:59Z</dcterms:created>
  <dc:creator>Komp_125_6</dc:creator>
  <dc:description/>
  <dc:language>en-US</dc:language>
  <cp:lastModifiedBy>студент</cp:lastModifiedBy>
  <dcterms:modified xsi:type="dcterms:W3CDTF">2012-03-14T04:13:54Z</dcterms:modified>
  <cp:revision>8</cp:revision>
  <dc:subject/>
  <dc:title>Различай С-З</dc:title>
</cp:coreProperties>
</file>